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F3C-7BBE-4EDD-A7D6-4E207609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20E-0A31-4354-BB42-E102BBFF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E4B-1F1A-4424-9B05-E5993263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A15-A795-4C6E-A3B0-A09D3CF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E41-C774-4C89-BC5F-4E932C7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094-93F1-43A2-9AFD-A6734F0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B24-9A8F-4082-B83D-F24A56A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BFF-1E04-4946-9902-E333AD22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51E-2423-4251-BEF7-7A9986D7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3B9-828C-4267-BB3B-BC5A6FC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A54-05F6-4E1C-9FC8-56C6AF2D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784-53A0-40AA-8FDC-53E1995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A92-9AC0-437B-BE8A-7C215DFE9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20:47Z</dcterms:created>
  <dc:creator>Grupo Editorial</dc:creator>
  <dc:description/>
  <dc:language>en-US</dc:language>
  <cp:lastModifiedBy>Grupo Editorial</cp:lastModifiedBy>
  <dcterms:modified xsi:type="dcterms:W3CDTF">2001-11-20T16:22:26Z</dcterms:modified>
  <cp:revision>1</cp:revision>
  <dc:subject/>
  <dc:title>Sin título de diapositiva</dc:title>
</cp:coreProperties>
</file>